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C36-0288-401A-A79B-BE2FF6B7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BBD-F74C-4D44-BA92-42E4A8F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C4E-D7A4-4B3C-9C4C-022D716F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D83-A8E2-4401-AABD-053C230B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1CD-9C37-4360-8E6F-3CEDD5F7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8F4-6292-4172-B8C4-27B37EC7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B67-E67D-44B9-B22E-CA349B97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1CF-32B6-452F-9B07-D6B072D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4B3-6946-43C4-9226-6CA3DCB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A5E-720C-42EC-AA55-C9163F73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D86-B173-40E5-9B4F-06E8463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F6C-034E-4FF4-B2CC-69B6BD5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66E-812A-4833-8FB6-1C099111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 Clase 6NH(601) La fecha es el 23 de en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ropósito # 3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verbos de cambio rad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thout looking in your notes or textbook, try to label as many body part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3560" y="3276720"/>
            <a:ext cx="32958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43792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191120" y="3429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38862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41148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476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5905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819160" y="55627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33720" y="510552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9528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s o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371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na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3962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b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3080" y="351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20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2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40840" y="397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6788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6248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1814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46483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6040" y="419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6080" y="52578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Guardar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mer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ub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dcterms:modified xsi:type="dcterms:W3CDTF">2013-01-23T23:13:40Z</dcterms:modified>
  <cp:revision>28</cp:revision>
  <dc:subject/>
  <dc:title>Me llamo ___________  Clase 7 IM La fecha es el 18 de noviembre del 2010</dc:title>
</cp:coreProperties>
</file>